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CEA6-BA80-45E7-A871-C1A698A15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0906-3777-4AA3-B341-DA1E15B9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0C5F-1E89-4EB9-802E-EE5E583AE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22AE-3F71-47FC-AB38-7E3E6BC42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D453-C367-458E-BA1B-280ECCDF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DA8D-8B62-462F-80C0-B0C35657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1FB9-FDF6-4E45-807A-B197AFF9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61BB-B3C6-4F71-A0FB-60A70F07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8A0F-CF86-475F-AA16-ABD2B85C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FC1C-A076-4996-8BA0-B12EF9A7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D2FB-8847-4FF8-9F7C-12314434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4F89-C832-4AD1-A808-CE7C7E3E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DC0F-1627-49F9-9CFD-58843A5EE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Riv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17524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Sans"/>
              </a:rPr>
              <a:t>Into the Volc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5120" y="2666880"/>
            <a:ext cx="52578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909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670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055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8680" y="1905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81280" y="1905120"/>
            <a:ext cx="4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21160" y="1905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83640" y="190512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1905120"/>
            <a:ext cx="31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276720" y="3276720"/>
            <a:ext cx="27432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6765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909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97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100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30600" y="20574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4500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3800" y="20574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64520" y="20574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3920" y="2057400"/>
            <a:ext cx="41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44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39040" y="2025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2388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469640" y="20574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429000" y="3048120"/>
            <a:ext cx="197820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1337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92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2200" y="198108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92560" y="19810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81480" y="1981080"/>
            <a:ext cx="37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48280" y="19494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048120" y="3276720"/>
            <a:ext cx="220968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5146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4290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866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8320" y="20574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6880" y="205740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81280" y="2057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97480" y="20574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11880" y="20574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4996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2057400"/>
            <a:ext cx="33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666880" y="3124080"/>
            <a:ext cx="335304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860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98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100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62320" y="2057400"/>
            <a:ext cx="41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2200" y="20574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4028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24280" y="20574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6416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485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24480" y="205740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90920" y="3246480"/>
            <a:ext cx="28954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9810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2590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055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20574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5000" y="205740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97280" y="205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2057400"/>
            <a:ext cx="5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83640" y="20574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21720" y="20574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42160" y="20257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21520" y="205740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90920" y="3276720"/>
            <a:ext cx="297180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1T14:57:18Z</dcterms:created>
  <dc:creator>New User</dc:creator>
  <dc:description/>
  <dc:language>en-US</dc:language>
  <cp:lastModifiedBy>Rutherford County Schools</cp:lastModifiedBy>
  <dcterms:modified xsi:type="dcterms:W3CDTF">2007-04-22T18:53:23Z</dcterms:modified>
  <cp:revision>18</cp:revision>
  <dc:subject/>
  <dc:title>Rivet</dc:title>
</cp:coreProperties>
</file>